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F0E-FEEB-49C2-977B-DB3C73E5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2A7-1F1F-4AB2-B2DF-C93084DB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AB9-AEC3-4747-8FD0-52AB5E47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5CE-D6D0-4889-9DE1-F9E90850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CF8-9502-4025-9AB5-E6789F92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A3E-A716-46FB-9337-9A87FD79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FBA-075E-4872-BE5D-14EB6937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C58-572A-4DC3-89C1-711B63D1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51A-7C4F-4AA4-B6B2-240AA522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442-6636-4482-A0DC-6546B22B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126-0200-4EE7-B068-ED0AA00A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00B-8A60-48D6-8CCE-8CA1D7F4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43A7-CEFD-4251-B43F-27D872435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I SOGGETTI DELLA SICUREZ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2576520"/>
            <a:ext cx="3809880" cy="2922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Datore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Dirig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rep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Lavor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R.S.P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Medico Comp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R.L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rogettisti, fabbricanti, fornitori e install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57200"/>
            <a:ext cx="9144000" cy="5335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formazione e Forma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390680" cy="2209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33720" y="1143000"/>
            <a:ext cx="6553080" cy="10087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evono essere organizzati corsi per tutti i lavoratori che devono ricevere una adeguata informazione sulla sicur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286000"/>
            <a:ext cx="6629400" cy="416268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rsi specifici di form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uoghi di lavo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so delle attrezzature di lavo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so dei dispositivi di protezione individu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movimentazione manuale dei carich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so del compu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tezione dagli agenti chimici, cancerogeni e biologici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895480"/>
            <a:ext cx="1066680" cy="38124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3429000"/>
            <a:ext cx="1066680" cy="3808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962520"/>
            <a:ext cx="1066680" cy="3808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4572000"/>
            <a:ext cx="1066680" cy="3808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5105520"/>
            <a:ext cx="1066680" cy="3808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5791320"/>
            <a:ext cx="1066680" cy="3808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76520" y="1371600"/>
            <a:ext cx="6913440" cy="4419720"/>
          </a:xfrm>
          <a:prstGeom prst="rect">
            <a:avLst/>
          </a:prstGeom>
          <a:noFill/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Datore di lavoro, in relazione alla prop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zienda e dei rischi ipotizzati, deve design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 lavoratori incaricati di gestire le poss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merg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mpiti dei lavoratori designanti q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DDETTI sono quelli di attua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e misure di prevenzione e protezione incen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evacuazione delle persone in caso di pericolo grave 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media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salvataggio di persone che si trovino in condizione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icol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pronto soccor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57200"/>
            <a:ext cx="9144000" cy="5335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ore di Lavor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1293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828800"/>
            <a:ext cx="4953240" cy="3276720"/>
          </a:xfrm>
          <a:prstGeom prst="rightArrowCallout">
            <a:avLst>
              <a:gd name="adj1" fmla="val 25002"/>
              <a:gd name="adj2" fmla="val 25000"/>
              <a:gd name="adj3" fmla="val 25194"/>
              <a:gd name="adj4" fmla="val 66667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meno una vo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l’anno viene inde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a Riunione Perio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ui devono parteci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tore di lavoro (o delega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sponsabile Servi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resentante d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vor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57200"/>
            <a:ext cx="9144000" cy="5335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unione periodic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1295280"/>
            <a:ext cx="4495680" cy="4343400"/>
          </a:xfrm>
          <a:prstGeom prst="vertic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ARGOMENTI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 trattare e discut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ocumento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alutazione Ris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doneità dei mez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 prot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grammi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ormazion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 i lavor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D19923_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04776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5335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ore di Lavor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71600" y="1371600"/>
            <a:ext cx="7391520" cy="3887640"/>
            <a:chOff x="1371600" y="1371600"/>
            <a:chExt cx="7391520" cy="3887640"/>
          </a:xfrm>
        </p:grpSpPr>
        <p:sp>
          <p:nvSpPr>
            <p:cNvPr id="98" name=""/>
            <p:cNvSpPr/>
            <p:nvPr/>
          </p:nvSpPr>
          <p:spPr>
            <a:xfrm>
              <a:off x="6299280" y="4751280"/>
              <a:ext cx="24638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33cc"/>
                  </a:solidFill>
                  <a:latin typeface="Comic Sans MS"/>
                </a:rPr>
                <a:t>Aggiornamen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71600" y="4751280"/>
              <a:ext cx="30481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Comic Sans MS"/>
                </a:rPr>
                <a:t>Servizio di Preven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4254480"/>
              <a:ext cx="24638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33cc"/>
                  </a:solidFill>
                  <a:latin typeface="Comic Sans MS"/>
                </a:rPr>
                <a:t>Incont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9720" y="4254480"/>
              <a:ext cx="18795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Comic Sans MS"/>
                </a:rPr>
                <a:t>Può conferire specifiche Deleg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4254480"/>
              <a:ext cx="304812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Comic Sans MS"/>
                </a:rPr>
                <a:t>Medico compet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757680"/>
              <a:ext cx="24638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33cc"/>
                  </a:solidFill>
                  <a:latin typeface="Comic Sans MS"/>
                </a:rPr>
                <a:t>Lezio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3757680"/>
              <a:ext cx="304812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Comic Sans MS"/>
                </a:rPr>
                <a:t>Addetti Primo Soccor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3259080"/>
              <a:ext cx="246384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33cc"/>
                  </a:solidFill>
                  <a:latin typeface="Comic Sans MS"/>
                </a:rPr>
                <a:t>Cors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71600" y="3259080"/>
              <a:ext cx="30481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Comic Sans MS"/>
                </a:rPr>
                <a:t>Addetti Antincen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2762280"/>
              <a:ext cx="24638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per i lavorato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1600" y="2762280"/>
              <a:ext cx="304812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Comic Sans MS"/>
                </a:rPr>
                <a:t>Responsabile Serviz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99280" y="2265480"/>
              <a:ext cx="24638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organiz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2265480"/>
              <a:ext cx="187956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Comic Sans MS"/>
                </a:rPr>
                <a:t>Assieme ai Dirigenti, Preposti  e Consulenti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Comic Sans MS"/>
                </a:rPr>
                <a:t>Componenti del Serviz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600" y="2265480"/>
              <a:ext cx="304812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desig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99280" y="1371600"/>
              <a:ext cx="2463840" cy="8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Informazione e forma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9720" y="1371600"/>
              <a:ext cx="1879560" cy="8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Valutazio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dei risch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600" y="1371600"/>
              <a:ext cx="3048120" cy="8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Organizzazione della sicurez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71600" y="1371600"/>
              <a:ext cx="7391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71600" y="2265480"/>
              <a:ext cx="739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276228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25908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600" y="375768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71600" y="4254480"/>
              <a:ext cx="739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475128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71600" y="5259240"/>
              <a:ext cx="7391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71600" y="1371600"/>
              <a:ext cx="0" cy="3887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19720" y="1371600"/>
              <a:ext cx="0" cy="38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280" y="1371600"/>
              <a:ext cx="0" cy="38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763120" y="2265480"/>
              <a:ext cx="0" cy="4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763120" y="1371600"/>
              <a:ext cx="0" cy="893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63120" y="2762280"/>
              <a:ext cx="0" cy="2496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99280" y="4751280"/>
              <a:ext cx="246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99280" y="3259080"/>
              <a:ext cx="246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99280" y="3757680"/>
              <a:ext cx="246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1293840" cy="2057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371600" y="5410080"/>
            <a:ext cx="7391520" cy="5335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sulta i Rappresentanti dei Lavor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457200"/>
            <a:ext cx="9144000" cy="5335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ore di Lavor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1612800" cy="2514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0"/>
            <a:ext cx="8381880" cy="1219320"/>
          </a:xfrm>
          <a:prstGeom prst="cloudCallout">
            <a:avLst>
              <a:gd name="adj1" fmla="val -43694"/>
              <a:gd name="adj2" fmla="val 10599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li OBBLIGH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el Datore di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99360" y="182880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ffettuare nomine e design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362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are la Valutazione dei ris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23120" y="2895480"/>
            <a:ext cx="568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digere il Documento della Sicur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o Piano di Sicurezza, delegando altri sogget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80280" y="3733920"/>
            <a:ext cx="5293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ttere in atto quanto è prev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l Piano di Sicurezza ed attua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in collaborazione o con deleghe specif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i diversi soggetti nomina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77040" y="5257800"/>
            <a:ext cx="60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Documenti devono essere conservati in azi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1676520"/>
            <a:ext cx="6781680" cy="44193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90920" y="1523880"/>
            <a:ext cx="398520" cy="586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514600" y="2133720"/>
            <a:ext cx="398520" cy="585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514600" y="2666880"/>
            <a:ext cx="398520" cy="586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2514600" y="3657600"/>
            <a:ext cx="398520" cy="585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2514600" y="5029200"/>
            <a:ext cx="3985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BBLIGHI DEL DATORE DI LAVORO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Rif. D.lgs.626/94, Art.4, c.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2320920"/>
            <a:ext cx="3429000" cy="34354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95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li obblighi relativi ad interventi strutturali e di manutenzione necessari per assicurare la sicurezza dei locali e degli edifici assegnati in uso a pubbliche amministrazioni o a pubblici uffici, ivi comprese le istituzioni scolastiche ed educative, restano a carico dell’amministrazione tenuta, per effetto di norme o convenzioni, alla loro fornitura e manutenzione. In tale caso gli obblighi previsti … si intendono assolti da parte dei dirigenti o funzionari preposti agli uffici interessati, con la richiesta del loro adempimento all’amministrazione competente o al soggetto che ne ha l’obbligo giurid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ATTORI DI RISCH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2166840"/>
            <a:ext cx="3809880" cy="3741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mbienti (posti di lavoro e posti di passagg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ttrezzature di lavoro (macchine, impianti, utensil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dotti e mat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SURE GENERALI DI TUTELA</a:t>
            </a:r>
            <a:br>
              <a:rPr sz="24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Rif. D.Lgs.626/94, art.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valutazione dei risc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liminazione o riduzione dei risc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iduzione dei rischi alla f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grammazione integ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ostituzione di ciò che è pericoloso con ciò che non lo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ispetto dei principi ergonom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iorità delle misure di protezione collettiva rispetto alle individu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imitazione del numero di lavoratori esp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tilizzo limitato degli agenti chimici, fisici e biolog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trollo sanitario dei lavor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llontanamento dei lavoratori dall’esposizione per motivi sanit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isure igien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isure di protezione collettiva ed individ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isure di emerg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so di segnale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nute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formazione, formazione, consultazione e partecipazione dei lavor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struzioni adeguate ai lavor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3818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457200"/>
            <a:ext cx="9144000" cy="7621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73c1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IANO DI SICUR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28600"/>
            <a:ext cx="8915400" cy="1676520"/>
          </a:xfrm>
          <a:prstGeom prst="cloudCallout">
            <a:avLst>
              <a:gd name="adj1" fmla="val -40222"/>
              <a:gd name="adj2" fmla="val 9678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cludendo riassumiamo il processo della sicure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he si attua 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1612800" cy="2514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666880" y="2819520"/>
            <a:ext cx="2743200" cy="19047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rumenti descri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 prescrittivi di ci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he è stato rileva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 di quanto bisog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are per attu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sicur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2819520"/>
            <a:ext cx="2819520" cy="19047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cedure e meto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ttraverso i quali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scrizioni rile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i Documenti s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ttuati e veng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pplic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5105520"/>
            <a:ext cx="5943600" cy="106668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ono tutte le Persone previste dal decreto 62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he si occupano della Sicurezza  con compiti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sponsabilità individ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2209680"/>
            <a:ext cx="27432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OCU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5410080"/>
            <a:ext cx="20574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OGG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2209680"/>
            <a:ext cx="27432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DEMPI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IL DATORE DI LAVORO</a:t>
            </a:r>
            <a:br>
              <a:rPr sz="40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‘ RESPONSABILE DELL’APPLICAZIONE DELLA GENERALITA’ DELLE NORME DI SICUREZZ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24080" y="1981080"/>
            <a:ext cx="253368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cfr.art.4 DPR 547/55 - I datori di lavoro, i dirigenti ed i preposti che eserciscono, dirigono o sovraintendono alle attività … devono,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nell’ambito delle rispettive attribuzioni e competenze</a:t>
            </a: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a) attuare le misure di sicurezza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b) rendere edotti i lavoratori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c) disporre ed esiger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57200"/>
            <a:ext cx="9144000" cy="5335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irigenti e Prepost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981080" cy="228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1219320"/>
            <a:ext cx="6095880" cy="15238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li obblighi in materia di sicurezza e salute d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voratori fanno capo, congiuntamente al Da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 Lavoro, ai Dirigenti e ai Preposti, nell’am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elle rispettive attribuzioni e competen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2895480"/>
            <a:ext cx="7467480" cy="297180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rigenti e Preposti sono tenuti, sulla base deg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carichi loro affidati o svolti di fa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principio dell’effettività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d adottare le misure che la norma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one a carico del Datore di Lavor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 la sola eccezione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uelli che non sono deleg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UNA PUNTUALE ED EFFICIENTE ORGANIZZAZIONE CONSENTE IL DECENTRAMENTO DELLE RESPONSABILIT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2036880"/>
          <a:ext cx="8229600" cy="39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36880"/>
                    <a:ext cx="8229600" cy="39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CUREZZA DEL LAVOR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DEMPIMENTI DEL DATORE DI LAVOR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riferimento art.4 del D.Lgs.626/19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ttua le misure di sicur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forma i lavoratori dei rischi e delle misure di sicur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spone ed esige attuazione misure e cautele di sicur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nalizza e valuta i ris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labora documento sicur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signa R.S.P.P. e AA.S.P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omina Medico Compet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signa addetti all’emerg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ggiorna le misure di sicur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ll’affidare i compiti tiene conto delle capacità e idoneità dei lavora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rnisce idonei d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dotta piani di emerg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dotta misure di prevenzione e protezione ince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on richiede prestazioni lavorative in presenza pericolo grave e immedi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vita inconvenienti al vicin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iene il registro infortu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ustodisce cartelle sanita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mette ai lavoratori di verificare l’applicazione delle misure di sicur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sulta il R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457200"/>
            <a:ext cx="9144000" cy="5335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ore di Lavor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1390680" cy="2209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286000"/>
            <a:ext cx="2652840" cy="380988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Art. 2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oggetto titol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el rapporto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voro 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unque, sogget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he  secondo il 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 l’organizzazio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ell’i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a la responsabilit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ella stessa, in qu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itolare dei pot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ecisionali e di sp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1600200"/>
            <a:ext cx="5105520" cy="1371600"/>
          </a:xfrm>
          <a:prstGeom prst="leftArrow">
            <a:avLst>
              <a:gd name="adj1" fmla="val 50000"/>
              <a:gd name="adj2" fmla="val 9305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rganizzazione della sicur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3048120"/>
            <a:ext cx="5105520" cy="1371600"/>
          </a:xfrm>
          <a:prstGeom prst="leftArrow">
            <a:avLst>
              <a:gd name="adj1" fmla="val 50000"/>
              <a:gd name="adj2" fmla="val 93058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alutazione dei Ris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4648320"/>
            <a:ext cx="5105520" cy="1371600"/>
          </a:xfrm>
          <a:prstGeom prst="leftArrow">
            <a:avLst>
              <a:gd name="adj1" fmla="val 50000"/>
              <a:gd name="adj2" fmla="val 9305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formazione e form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4648320"/>
            <a:ext cx="2743200" cy="121896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 avvale d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llaborazione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800600"/>
            <a:ext cx="5029200" cy="955080"/>
          </a:xfrm>
          <a:prstGeom prst="rect">
            <a:avLst/>
          </a:prstGeom>
          <a:solidFill>
            <a:srgbClr val="00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rigenti e prep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ulenti ed esperti di sicurezz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666880"/>
            <a:ext cx="2743200" cy="9144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desig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1676520"/>
            <a:ext cx="6248160" cy="25905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sponsabile del Servizio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evenzione e Protezione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nterno/estern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dico Comp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voratori addetti per la lotta 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evenzione incendi e all’emerg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voratori addetti al pronto socco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57200"/>
            <a:ext cx="9144000" cy="5335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rganizzazione della sicurezz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390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5335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lutazione dei ris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390680" cy="2209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133720" y="1219320"/>
            <a:ext cx="2819160" cy="184824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RISCHI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probabilità che sia raggiunto un livello potenziale di danno nelle condizioni di impiego o di esposizione ad un pericolo da parte di un lavor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1219320"/>
            <a:ext cx="3124080" cy="204084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PERICOL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o fattore di rischio): proprietà o qualità intrinseca di una determinata entità (materiali, lavorazioni, attrezzature di lavoro, metodi e pratiche di lavoro) avente il potenziale di causare un dan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3276720"/>
            <a:ext cx="7619760" cy="131364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cedimento di analisi che devono essere effettuate, in ogni ambiente di lavoro, per arrivare ad una stima del rischio, in base ai pericoli, al fine di identificare i fattori di pericolo per i lavora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800600"/>
            <a:ext cx="7543800" cy="119124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OBBIETTIVO DELLA VALUTAZIONE DEL RISCHIO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sentire al Datore di Lavoro di prendere i provvedimenti che sono effettivamente necessari per salvaguardare la sicurezza e la salute dei lavor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457200"/>
            <a:ext cx="9144000" cy="5335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lutazione dei ris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390680" cy="2209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62320" y="1447920"/>
            <a:ext cx="6324480" cy="4724280"/>
          </a:xfrm>
          <a:prstGeom prst="rect">
            <a:avLst/>
          </a:prstGeom>
          <a:noFill/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'obbligo di realizzare il processo di valutazione, anali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trollo e gestione dei rischi lavorativi e  ovvi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necessarie misure ed interventi di  prevenzione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protezione al fine di eliminare o ridurre i risch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riguar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ssenzialmente il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datore di lavor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' evidente tuttavia che dal punto di vista tecnic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perativo e procedurale il datore di lavo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ovrà avvalersi di alcune competenz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ofessionali e gestionali, peraltro in larga misu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eviste dal D.Lgs 626/94 che son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irigenti, Preposti e Consul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sponsabile del Servizio Prevenzione e Prote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edico compe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appresentante dei Lavoratori per la Sicurez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666880"/>
            <a:ext cx="1752480" cy="3048120"/>
          </a:xfrm>
          <a:prstGeom prst="flowChartDocumen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. Lgs. 6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rt.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cu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alu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s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5:51:57Z</dcterms:created>
  <dc:creator>Gianino Salvatore</dc:creator>
  <dc:description/>
  <dc:language>en-US</dc:language>
  <cp:lastModifiedBy>Gianino Salvatore</cp:lastModifiedBy>
  <dcterms:modified xsi:type="dcterms:W3CDTF">2004-04-21T23:12:38Z</dcterms:modified>
  <cp:revision>29</cp:revision>
  <dc:subject/>
  <dc:title>SICUREZZA DEL LAVORO ADEMPIMENTI DEL DATORE DI LAVORO (riferimento art.4 del D.Lgs:626/1994)</dc:title>
</cp:coreProperties>
</file>