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D0F-B6F3-4044-B0D3-05A485AC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B8D-88A3-4A66-859A-FEBC567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798-6D6A-4A68-B52A-775552CE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A14-CFBC-461C-82C5-D99CA14C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0A8-719D-4AF8-8727-290B9A3B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9CF-1039-4EC8-A2FA-AF6A68A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EC9-D965-445D-9C59-1893B419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045-2CA9-4285-80AF-58D6585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CCA-63A5-4218-AE74-B48B8A42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246-13EB-455C-92A2-F67EBC9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210-F956-416C-93A3-8685FAC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0C3-E1DD-43D2-90B3-F8FD48F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4CD-0C9A-4FAE-8744-47A40CF7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73c1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gilanza e Sanzion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3520"/>
            <a:ext cx="8610840" cy="1676160"/>
          </a:xfrm>
          <a:prstGeom prst="cloudCallout">
            <a:avLst>
              <a:gd name="adj1" fmla="val -42976"/>
              <a:gd name="adj2" fmla="val 10890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Decreto 626 disciplina, anch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attività di Vigilanza e le San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161280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29000" y="2362320"/>
            <a:ext cx="5121360" cy="15570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vigilanza è svolta per verif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pplicazione della legislazion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teria di sicurezza nei luogh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4191120"/>
            <a:ext cx="5410080" cy="205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ttività di Vigilanza è svolta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.S.L. (Azienda Sanitaria Lo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rezione Provinciale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gili del Fu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tti gli organi di polizia giudiz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it-IT" sz="4800" spc="-1" strike="noStrike">
                <a:solidFill>
                  <a:srgbClr val="000000"/>
                </a:solidFill>
                <a:latin typeface="Times New Roman"/>
              </a:rPr>
              <a:t>ATTIVITA’ DI VIGILANZA</a:t>
            </a:r>
            <a:br>
              <a:rPr sz="48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ZIONE DELL’ORGANO DI VIGILANZA FINALIZZATA A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 (azione amministrativa) - RIMOZIONE DELLE SITUAZIONI DI PERICOLO NELL’AMBITO DELL’ATTIVITA’ DI PREVENZIONE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 (azione penale) - PUNIZIONE DEI CONTRAVVENTOR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ORGANO DI VIGILANZA: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erca i peri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fronta i pericoli con Leggi e Regol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mula indicazioni per la eliminazione dei per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scrive la eliminazione dei per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ferisce all’Autorità Giudiziaria per l’azione pe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1447920"/>
            <a:ext cx="5105520" cy="1904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violazioni alle prescrizioni del D. Lgs. 6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no contravven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nite con l’arr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 l’amm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73c1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anzion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5878_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989000" cy="243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3657600"/>
            <a:ext cx="7239240" cy="23623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carico dei soggetti che h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obbligo di applic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73c1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anzion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2057400"/>
            <a:ext cx="4267440" cy="3809880"/>
          </a:xfrm>
          <a:custGeom>
            <a:avLst/>
            <a:gdLst>
              <a:gd name="textAreaLeft" fmla="*/ 1066680 w 4267440"/>
              <a:gd name="textAreaRight" fmla="*/ 3200760 w 426744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san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unisc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 l’arr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 con 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mmenda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ravven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mess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54920" y="1523880"/>
            <a:ext cx="3975480" cy="4597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tori di lavoro e Dirig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5720" y="3657600"/>
            <a:ext cx="1750320" cy="4597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5640" y="5867280"/>
            <a:ext cx="5068080" cy="4597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gettisti, fabbricanti, install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26600" y="3657600"/>
            <a:ext cx="1370880" cy="4597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p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04900_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63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TTIVITA’ DI PREVENZIONE</a:t>
            </a:r>
            <a:br>
              <a:rPr sz="4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art.20 Legge 833/78 - Prestazioni delle Aziende U.S.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viduazione, accertamento e control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i fattori di nocività, di pericolosità e di deterioramento negli ambienti di vita e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unic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i dati accertati e 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ffus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loro cono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e misure idonee alla eliminazione dei fattori di rischio ed al risanamento degli ambienti di vita e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mulazione del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ppe di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filass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gli eventi morb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rifica di compatibili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i piani urbanistici, dei progetti di insediamenti industriali e di attività produttive in gen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ACOLTA’ DELL’ORGANO DI VIGIL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380988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ccesso ai luoghi di lavo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esame dei luoghi, attrezzature, 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prelievo campioni di materiali, 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esame document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richiesta generalità pers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richiesta informazio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visite medi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cquisizione notizie presso ent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cquisizione documentaz. clin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ttività di polizia giudizia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prescrizio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300" spc="-1" strike="noStrike">
                <a:solidFill>
                  <a:srgbClr val="000000"/>
                </a:solidFill>
                <a:latin typeface="Times New Roman"/>
              </a:rPr>
              <a:t>COMPITI DELL’UFFICIALE DI POLIZIA GIUDIZIA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637000"/>
            <a:ext cx="3809880" cy="2803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sicurazione delle fonti di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dentificazione delle pers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ccolta sommari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quis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ques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errog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fro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quisizione di plichi e corrispon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cuzione dei poteri coercitivi del giu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vvalersi di collaboratori tec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volgere atti e indagini delegate da A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.LGS.19/12/1994 n.758</a:t>
            </a:r>
            <a:br>
              <a:rPr sz="36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disciplina sanzion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1828800" cy="4343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Coordina l’azione penale con l’azione amministr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300" spc="-1" strike="noStrike">
                <a:solidFill>
                  <a:srgbClr val="000000"/>
                </a:solidFill>
                <a:latin typeface="Times New Roman"/>
              </a:rPr>
              <a:t>Consente la eliminazione della contravvenzione attraverso l’eliminazione della situazione di pericolo ed il pagamento dell’ammenda in sede amministrativa in misura ridotta a 1/4 del massim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6:30:10Z</dcterms:created>
  <dc:creator>Gianino Salvatore</dc:creator>
  <dc:description/>
  <dc:language>en-US</dc:language>
  <cp:lastModifiedBy>Gianino Salvatore</cp:lastModifiedBy>
  <dcterms:modified xsi:type="dcterms:W3CDTF">2004-04-21T23:08:54Z</dcterms:modified>
  <cp:revision>7</cp:revision>
  <dc:subject/>
  <dc:title>Nessun titolo diapositiva</dc:title>
</cp:coreProperties>
</file>