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4B6-73E4-46DC-9745-AC45A9E7DA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BCA1-F8F8-46ED-B35A-914A8CA103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72C-4ADF-48AE-935C-56B622C103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0DF-8EFB-44EE-A3AF-537769F64F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18A-3474-4380-B25E-3DDB27E6DA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A8D6-D603-460F-888E-0B24A87E6C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517F-8398-4BA8-A5B4-23FB9F261F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208E-4928-4E56-A625-3822638462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58B4-E6C1-4326-9083-1A81A8C16A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00F-0160-4AA5-B85C-99E1C339AC4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2B27-EBCD-400D-851D-528CB0413A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103-8A83-473D-BEFE-D94F1345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2B1-F97F-4AB2-8A1E-40DF8D52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978-8ECF-472F-8FCB-0402A27A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EA3-648C-44F4-8F01-5E55E616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502-9D47-4E85-9AE6-CC09D56C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B74-4558-4C3E-B177-D8B8C16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70D-16BE-43F6-A2E1-B676E16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CA0-E7B0-4171-B336-857A759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736-91A0-419D-B903-A002BA6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ACE-EEAD-484F-8B8B-1A3A17D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702-19A2-4A19-B7AB-901FD83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15C-75D6-4822-B7BE-C94D2304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2AB-AEC2-44BF-B11C-C7156F7450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wmf"/><Relationship Id="rId6" Type="http://schemas.openxmlformats.org/officeDocument/2006/relationships/image" Target="../media/image2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00" y="1785960"/>
            <a:ext cx="83581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AL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EDUCAZIONE E PROMOZIONE DELLA SALU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ELETTIVA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SUI GRUPPI A RIS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PECIF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DETERMINATI FATTORI DI RIS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SULLA POPOLAZIONE DEI SA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CONDARI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INTERVENTO PRECOCE SU GRUPPI A RISCHIO/PORTATORI DEL PROBLEM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RZIARI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DELLE COMPLICANZE , DELLA MORTALITA, DELLA DISABILITA, DELLE RECIDIVE,…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COMPETENZA MULTIDISCIPLINARE INTEGRATA ED INTERISTITUZIONALE INTEG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7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 sert"/>
          <p:cNvPicPr/>
          <p:nvPr/>
        </p:nvPicPr>
        <p:blipFill>
          <a:blip r:embed="rId2"/>
          <a:stretch/>
        </p:blipFill>
        <p:spPr>
          <a:xfrm>
            <a:off x="7340760" y="0"/>
            <a:ext cx="1803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453708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La scuola come luogo privilegiato per gli interventi di prevenzione e di promozione della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345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apere, saper fare e saper esser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ostituiscono ambiti di competenza tra loro strettamente interrel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ttenzion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il raggiungimento de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uccesso formativo non può essere disgiunt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a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ttenzione alla dimensione affettiva 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complessivo stato di benesser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o malessere dello stu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La progettazione di tali attività dovrebbe implicar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una scelta istituzion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ulturale e scientifica di alto profi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588000" y="260280"/>
            <a:ext cx="2376720" cy="647640"/>
            <a:chOff x="6588000" y="260280"/>
            <a:chExt cx="2376720" cy="647640"/>
          </a:xfrm>
        </p:grpSpPr>
        <p:sp>
          <p:nvSpPr>
            <p:cNvPr id="105" name="Oval 5"/>
            <p:cNvSpPr/>
            <p:nvPr/>
          </p:nvSpPr>
          <p:spPr>
            <a:xfrm>
              <a:off x="6588000" y="260280"/>
              <a:ext cx="2376720" cy="647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6761520" y="412200"/>
              <a:ext cx="196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1527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mpus Sans ITC"/>
              </a:rPr>
              <a:t>PRO.DI.GI. </a:t>
            </a:r>
            <a:br>
              <a:rPr sz="3200"/>
            </a:b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Ne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2008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oerentemente con tali premesse e in sinergia con l’USP di Cagliari e con l’Assessorato  alle Politiche Sanitarie e Sociali e Pubblica Istruzione della Provincia del Medio Campidano abbiamo promosso la costituzione di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Tavolo Permanente di Studio e Proget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i Interventi di Prevenzione delle Dipendenze Giovanili nei Contesti Scolastic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vitando a parteciparvi gli Istituti di Istruzione Secondaria di Primo e Secondo grado, operatori socio-sanitari della ASL 6 e del Privato Sociale, referenti degli Uffici di Piano dei PLUS dei Distretti di Guspini e Sanl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6767640" y="189000"/>
            <a:ext cx="2376360" cy="671400"/>
            <a:chOff x="6767640" y="189000"/>
            <a:chExt cx="2376360" cy="671400"/>
          </a:xfrm>
        </p:grpSpPr>
        <p:sp>
          <p:nvSpPr>
            <p:cNvPr id="111" name="Oval 5"/>
            <p:cNvSpPr/>
            <p:nvPr/>
          </p:nvSpPr>
          <p:spPr>
            <a:xfrm>
              <a:off x="6767640" y="189000"/>
              <a:ext cx="2376360" cy="671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6941160" y="346320"/>
              <a:ext cx="1969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13" name="Immagine 1" descr="tavolo%2Bsedi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321300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Del mondo della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cuola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sono state invitati a partecipare attivamente una significativa rappresentanza dei diversi “attori” interessa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tud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oc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genit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695520" cy="628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68360" y="4869000"/>
            <a:ext cx="8388360" cy="1245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l Tavolo si propone come organismo interistituzionale </a:t>
            </a:r>
            <a:br>
              <a:rPr sz="2800"/>
            </a:b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che persegue le seguenti finalità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11120"/>
            <a:ext cx="73152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FIN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nalisi congiunta delle problematich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connesse ai comportamenti d’abuso e alle dipendenze e ai bisogni  di benessere degli stud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ttività di progettazione partecipata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che vede coinvolti attivamente i diversi “attori” e protagonisti delle azioni di preven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ozione di processi d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emporwerment giovanil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uovere negli studenti 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cquisizione di importanti competenze di vita (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ife Skills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divisione e integrazione delle esperienz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ealizzate nelle diverse scuo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romuovere la cultura della valuta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del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fficacia degli interv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5600" y="333360"/>
            <a:ext cx="741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392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Anno scolastico 2010 –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AZIONI REALIZZ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ttività di co-progettazione e realizzazione di 5 progetti </a:t>
            </a:r>
            <a:r>
              <a:rPr b="1" i="1" lang="it-IT" sz="2400" spc="-1" strike="noStrike">
                <a:solidFill>
                  <a:srgbClr val="000000"/>
                </a:solidFill>
                <a:latin typeface="Tempus Sans ITC"/>
              </a:rPr>
              <a:t>“Gli studenti protagonisti della prevenzione: peer educator …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hanno interessato i seguenti Istituti di Istruzione Secondaria di II° G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IIS “A. Volta” di Guspini, Arbus e Villaci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IIS “M. Buonarroti” di Gusp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Classico - Linguistico “E. Piga” di Villaci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Scienze Umane - Linguistico “E. Lussu” di San Gavino M.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Scientifico “G. Marconi” di San Gavino M.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656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La metodologia della Peer Educ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la cui efficacia è riconosciuta internazionalmente e dall’O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si basa sul riconoscimento delle potenzialità relazionali e comunicative dei giovani all’interno di interventi di prevenzione nei quali agli studenti è demandato il ruolo di “agenti di informazione e cambiament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La peer education riconosce g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li stud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e i giovani com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oggetti attivi e responsabil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com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risorsa  imprescind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a porre al centro del percorso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di prevenzione e promozione della sa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fin dalla fase progettuale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di definizione degli obiettivi e delle metodologie di lavoro di grup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579600"/>
            <a:ext cx="7556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47240"/>
            <a:ext cx="720072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… e strategie di prevenzione</a:t>
            </a:r>
            <a:r>
              <a:rPr b="0" lang="it-IT" sz="2800" spc="-1" strike="noStrike">
                <a:solidFill>
                  <a:srgbClr val="e818b6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25000"/>
            <a:ext cx="8686800" cy="55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Dalla metodologia centrata sulla figura del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esper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on competenze medico-scientifiche, al quale veniva delegata la total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o,  incapace di toccare gli specifici bisogni del gruppo al quale si rivolgeva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la metodologia centrata sulla figura del docent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he vanta competenze educative-pedagogiche e può contare su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vicina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 sulla continu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la relazione con gli studen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la metodologia centrata sulle competenze degli stud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secondo il modello d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eer-educa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li vede come attori principali delle scelte operative e strategiche degli interventi di preven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0492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086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oprattutto in ambiti di interven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quali sessual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droghe gli educatori tra pari sono percepiti com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nti di informazione p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credibil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 fornendo, al contempo,  un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modello di ruolo prosoci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consente di testimoniare comportamenti protettivi anche al di fuori del setting scola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Si riconosce che i pi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 efficaci promotori del benessere individuale sono proprio le persone adeguatamente formate e appartenenti allo stesso gruppo sociale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magine 1" descr="tavolo%2Bsedie"/>
          <p:cNvPicPr/>
          <p:nvPr/>
        </p:nvPicPr>
        <p:blipFill>
          <a:blip r:embed="rId1"/>
          <a:stretch/>
        </p:blipFill>
        <p:spPr>
          <a:xfrm>
            <a:off x="304920" y="30492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15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e … metodologie </a:t>
            </a:r>
            <a:br>
              <a:rPr sz="2400"/>
            </a:b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di lavoro di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Le funzioni esercitate dai peer educator durante la conduzione di grupp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tim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Infor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acili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ocalizz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Immagine 1" descr="tavolo%2Bsedie"/>
          <p:cNvPicPr/>
          <p:nvPr/>
        </p:nvPicPr>
        <p:blipFill>
          <a:blip r:embed="rId1"/>
          <a:stretch/>
        </p:blipFill>
        <p:spPr>
          <a:xfrm>
            <a:off x="468360" y="40464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DAL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400" y="1785600"/>
            <a:ext cx="83912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DELLE TOSSICODIPENDENZE (riduzione domanda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PROBLEMI ALCOLCORRE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TABAGISMO E PATOLOGIE CORRE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GAP-GIOCO D’AZZARDO  PAT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DELLE PRINCIPALI MALATTIE CORRE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EZION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EZIONE VIRUS EPATITE  B-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TURBI PSICOPATOLOGICI E PSICHIAT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MOZIONE SICUREZZA STRADALE E PREVENZIONE INFORTUNI (PROGETTO PROVINCIALE E PROGETTO SICURV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88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ogo sert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342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empus Sans ITC"/>
              </a:rPr>
              <a:t>Peer education … il percorso formativo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Obiettivi del percorso form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Acquisizione e implementazione di competenze relazionali, relativamente ai processi di comunicazione  e alle dinamiche di grup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Acquisizione di conoscenze e riflessioni relativamente al fenomeno dato dal consumo di sostanze psicoattive  da parte dei giov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Articolazione del percorso form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’ a cura dell’èquipe  PRO.DI.GI. e dei docenti refer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Si avvale di  seminari e laboratori  che si svolgono nei rispettivi istituti scolastici per la durata complessiva di N° 26 o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Si avvale  (quando finanziati)  anche di sessioni di approfondimento formativo a carattere residenziale e interscolastico della durata di due gio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mmagine 1" descr="tavolo%2Bsedie"/>
          <p:cNvPicPr/>
          <p:nvPr/>
        </p:nvPicPr>
        <p:blipFill>
          <a:blip r:embed="rId1"/>
          <a:stretch/>
        </p:blipFill>
        <p:spPr>
          <a:xfrm>
            <a:off x="457200" y="38088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705960"/>
            <a:ext cx="678168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empus Sans ITC"/>
              </a:rPr>
              <a:t>Peer Education  … e riflessioni di un peer jun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«La Peer Education ha favorito la mia crescita sviluppando il mio senso critico. Ora sono più consapevole di me stesso e della mia generazione. Questa esperienza ha maturato in me un senso di responsabilità verso i miei compagni di classe e i coetanei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Immagine 1" descr="tavolo%2Bsedie"/>
          <p:cNvPicPr/>
          <p:nvPr/>
        </p:nvPicPr>
        <p:blipFill>
          <a:blip r:embed="rId1"/>
          <a:stretch/>
        </p:blipFill>
        <p:spPr>
          <a:xfrm>
            <a:off x="457200" y="38088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IMG_2473"/>
          <p:cNvPicPr/>
          <p:nvPr/>
        </p:nvPicPr>
        <p:blipFill>
          <a:blip r:embed="rId1"/>
          <a:stretch/>
        </p:blipFill>
        <p:spPr>
          <a:xfrm rot="21141000">
            <a:off x="323640" y="476280"/>
            <a:ext cx="4752720" cy="266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IMG_0952"/>
          <p:cNvPicPr/>
          <p:nvPr/>
        </p:nvPicPr>
        <p:blipFill>
          <a:blip r:embed="rId2"/>
          <a:stretch/>
        </p:blipFill>
        <p:spPr>
          <a:xfrm rot="262200">
            <a:off x="3708000" y="285228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20140329_124332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04180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IMG_0789"/>
          <p:cNvPicPr/>
          <p:nvPr/>
        </p:nvPicPr>
        <p:blipFill>
          <a:blip r:embed="rId1"/>
          <a:stretch/>
        </p:blipFill>
        <p:spPr>
          <a:xfrm>
            <a:off x="318960" y="668160"/>
            <a:ext cx="857412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0"/>
          <a:ext cx="9144000" cy="6973920"/>
        </p:xfrm>
        <a:graphic>
          <a:graphicData uri="http://schemas.openxmlformats.org/drawingml/2006/table">
            <a:tbl>
              <a:tblPr/>
              <a:tblGrid>
                <a:gridCol w="1332000"/>
                <a:gridCol w="3744720"/>
                <a:gridCol w="2159280"/>
                <a:gridCol w="1908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Tavolo perma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uppi di lavoro scolast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 gru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9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Tavolo perma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ormazione congiunta docenti/ opera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 cor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ormazione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 semin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0/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educator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 I°-II° IIIS di II°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4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i coinvolti: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I Genitori protagonisti della prevenzion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crea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 studenti IIS di I°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7 labo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riflessione  dialogo (genito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 labo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1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Studenti protagonisti della prevenzione: peer educator…”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Modulo operativo SICURPEER: peer educator per la sicurezza stradale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0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I°-II° classi  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13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i coinvolti: 1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I Genitori protagonisti della prevenzion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promozione della salute (I° classe IIS di I°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2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riflessione e dialogo (genito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2 lab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8964720" cy="6753240"/>
        </p:xfrm>
        <a:graphic>
          <a:graphicData uri="http://schemas.openxmlformats.org/drawingml/2006/table">
            <a:tbl>
              <a:tblPr/>
              <a:tblGrid>
                <a:gridCol w="1530360"/>
                <a:gridCol w="3618000"/>
                <a:gridCol w="2016000"/>
                <a:gridCol w="1800360"/>
              </a:tblGrid>
              <a:tr h="71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66816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2/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&amp; dispeer educator per la prevenzione del consumo di sostanze psicoat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0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°-II° IIS di II°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9 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. Studenti: 1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5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15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 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Early detection of drug use and early intervention in childr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contri di formazione/infor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3 incontri  ge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 incontri doc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3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&amp; dispeer educator per la prevenzione del consumo di sostanze psicoat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I°-II° classi 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4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. Studenti: 1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23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28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 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Early detection of drug use and early intervention in childr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contri di formazione/infor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8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centi/ge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783480"/>
        </p:xfrm>
        <a:graphic>
          <a:graphicData uri="http://schemas.openxmlformats.org/drawingml/2006/table">
            <a:tbl>
              <a:tblPr/>
              <a:tblGrid>
                <a:gridCol w="1530360"/>
                <a:gridCol w="3389400"/>
                <a:gridCol w="2657520"/>
                <a:gridCol w="1566720"/>
              </a:tblGrid>
              <a:tr h="74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694800"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2014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 educator per la prevenzione del consumo di sostanze psicoattive”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Modulo operativo “SICURPEER: peer educator per la sicurezza stradale dei giovani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di base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co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zione specialistica in sicurezza stra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 realizzato per inadempienze amministr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 realizz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I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 realizzab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, dalla scuola al territori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ttivazione gruppi territor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grammazione at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di preven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 inco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tà dei giov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Progetto Europeo- Programma Regionale “Unplugged - prevenzione dell’uso di tabacco, alcol e drogh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rtecipazione corso per formatori reg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ganizzazione corso per doc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ttivazione e supervisione Percorsi d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fase di real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609480"/>
            <a:ext cx="705492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3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UNTI DI FO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Creazione e mantenimento di un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rete (di buone relazioni professionali e personali) territori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interistituzionale: 15 Istituti scolastici coinvol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 e impegno da parte degli stud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(processo di empowerment giovan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, disponibilità e impegno da parte dei doc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a guidare e sostenere il percorso di empowerment degli stude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 da parte degli operatori del SerD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ontinuità progettu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magine 1" descr="tavolo%2Bsedie"/>
          <p:cNvPicPr/>
          <p:nvPr/>
        </p:nvPicPr>
        <p:blipFill>
          <a:blip r:embed="rId1"/>
          <a:stretch/>
        </p:blipFill>
        <p:spPr>
          <a:xfrm>
            <a:off x="61128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609480"/>
            <a:ext cx="6910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6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ifficoltà ad integrare le attività progettual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con quelle curricolari (molti docenti non favoriscono la realizzazione delle attiv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Scarsità di risorse econom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’ previsto un finanziamento specifico solo relativamente al Modulo progettuale SICURPEER da parte della 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Surplus di impegno 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mancata incentivazione dei doc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magine 1" descr="tavolo%2Bsedie"/>
          <p:cNvPicPr/>
          <p:nvPr/>
        </p:nvPicPr>
        <p:blipFill>
          <a:blip r:embed="rId1"/>
          <a:stretch/>
        </p:blipFill>
        <p:spPr>
          <a:xfrm>
            <a:off x="61128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DAL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70028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C (CENTRO INFORMAZIONE CONSULENZA)-DPR 309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PORTELLO PSICOLOGICO IN AMBITO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DUCAZIONE SESSUALE E PREVENZIONE MST (CONSULTO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FERENZA DIBATTITO (SCUOLA-TERRI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IZIATIVE ISO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GRAMMA SISTE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GETTO “TILT” – RICERCA AZIONE SULLE NUOVE DIPENDENZE /ASSOCIAZIONE SY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GETTO PROMOZIONE DELLA SALUTE E PROBLEMI ALCOLCORRE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UOLE ALCOLOGICHE TERRITORIALI /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go sert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920" y="285480"/>
            <a:ext cx="7199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di prevenzione seco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773000"/>
            <a:ext cx="83516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In accordo con gli </a:t>
            </a:r>
            <a:r>
              <a:rPr b="1" i="1" lang="it-IT" sz="1800" spc="-1" strike="noStrike">
                <a:solidFill>
                  <a:srgbClr val="000000"/>
                </a:solidFill>
                <a:latin typeface="Tempus Sans ITC"/>
              </a:rPr>
              <a:t>Obiettivi prioritari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 del </a:t>
            </a:r>
            <a:r>
              <a:rPr b="1" lang="it-IT" sz="1800" spc="-1" strike="noStrike">
                <a:solidFill>
                  <a:srgbClr val="000000"/>
                </a:solidFill>
                <a:latin typeface="Tempus Sans ITC"/>
              </a:rPr>
              <a:t>Programma Regionale di Interventi nel Settore delle Dipendenze che 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promuove la territorializzazione dell’assistenza e l’integrazione con gli altri servizi…” e “la diversificazione degli interventi”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Si è voluto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migliorare il livello di accessibilità del Servizio Dipendenze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lle famiglie di adolescenti e giovani che per esigenze di privacy e per  paura dello stigma sociale difficilmente accedono alla sede SerD di Guspini,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ttraverso la realizzazione del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zion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itate preferibilmente nell’Ambulatorio di Guardia Medica 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resso l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asa della Salute di Villacid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di prevenzione seco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zio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Consulenze specialistiche rivolte ai giovani e ai genito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secuzione Drug t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iagnosi preco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efinizione tipologia di trattamento indic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i di sostegno motivazionale rivolti ai giova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i di sostegno psicoeducativo rivolti ai genito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Monitoraggio clinic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Terapie multidisciplinari integ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trattamenti psicolog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psico-soci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psico-medico-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68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1640" y="285840"/>
            <a:ext cx="7126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di prevenzione secondaria e terzi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42960" y="149976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nno 2012</a:t>
            </a:r>
            <a:r>
              <a:rPr b="0" i="1" lang="it-IT" sz="2000" spc="-1" strike="noStrike">
                <a:solidFill>
                  <a:srgbClr val="000000"/>
                </a:solidFill>
                <a:latin typeface="Tempus Sans ITC"/>
              </a:rPr>
              <a:t>: Adesione al </a:t>
            </a:r>
            <a:r>
              <a:rPr b="1" i="1" lang="it-IT" sz="2000" spc="-1" strike="noStrike">
                <a:solidFill>
                  <a:srgbClr val="000000"/>
                </a:solidFill>
                <a:latin typeface="Tempus Sans ITC"/>
              </a:rPr>
              <a:t>Progetto Nazionale “Early dectection and early intervention in childreen - Diagnosi precoce dell’uso di droghe e intervento precoce nei minori”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Che persegu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e finalita’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are 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rogrammi strutturati e permanenti di diagnosi e intervento precoce 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rivolti ai minori e alle loro famig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Ridurre il ritardo di diagnosi e di intervento 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relativament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disturbi comportamentali nei minori (vulnerabilità all’addi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uso precoce di sostanze psicoatti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dipenden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patologie corre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 di prevenzione seco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09: N°43 giovani e famigli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0: N° 54 giovani (11 minori) e famigli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1: N° 38 giovani (16 minori) e N° 27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2: N° 42 giovani (16 minori) e N° 24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3: N° 38 giovani (18 minori) e N° 22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4: N° 59 giovani (25 minori) e N° 44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DAL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42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CHOOL PREVENTION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ORNATA MONDIALE SENZA TABA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TTACOLO TEATRALE + DIBATTIT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GAP-ROVINARSI E UN GIO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ALIZZAZIONE DI POSTER, LOCANDINE, OPUSCOLI, PARTECIPAZIONE A RADIO/T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INIZIATIVE REGIONALI/MINISTE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RO.DI.GI. – PROGETTO DIPENDENZE GIOVAN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2008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(CONTINUITA-PROGRAMMAZIONE-SCIENTIFICITA-INTEGRAZIONE INTERISTITUZIO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42092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logo sert"/>
          <p:cNvPicPr/>
          <p:nvPr/>
        </p:nvPicPr>
        <p:blipFill>
          <a:blip r:embed="rId2"/>
          <a:stretch/>
        </p:blipFill>
        <p:spPr>
          <a:xfrm>
            <a:off x="7308720" y="189000"/>
            <a:ext cx="14446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77300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"/>
          <p:cNvSpPr/>
          <p:nvPr/>
        </p:nvSpPr>
        <p:spPr>
          <a:xfrm rot="14177400">
            <a:off x="5449680" y="5979960"/>
            <a:ext cx="41760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Oval 4"/>
          <p:cNvSpPr/>
          <p:nvPr/>
        </p:nvSpPr>
        <p:spPr>
          <a:xfrm rot="7428000">
            <a:off x="7328880" y="5547960"/>
            <a:ext cx="255600" cy="436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Oval 5"/>
          <p:cNvSpPr/>
          <p:nvPr/>
        </p:nvSpPr>
        <p:spPr>
          <a:xfrm rot="17769600">
            <a:off x="1406160" y="5755680"/>
            <a:ext cx="289080" cy="511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Oval 6"/>
          <p:cNvSpPr/>
          <p:nvPr/>
        </p:nvSpPr>
        <p:spPr>
          <a:xfrm flipV="1" rot="19437000">
            <a:off x="3123720" y="5942520"/>
            <a:ext cx="540000" cy="314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539640" y="333360"/>
            <a:ext cx="115272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ogo sert"/>
          <p:cNvPicPr/>
          <p:nvPr/>
        </p:nvPicPr>
        <p:blipFill>
          <a:blip r:embed="rId6"/>
          <a:stretch/>
        </p:blipFill>
        <p:spPr>
          <a:xfrm>
            <a:off x="7524720" y="260280"/>
            <a:ext cx="982800" cy="507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3276720" y="4952880"/>
            <a:ext cx="2736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Tempus Sans ITC"/>
                <a:ea typeface="Arial"/>
              </a:rPr>
              <a:t>SERD ASL 6  SANLURI </a:t>
            </a:r>
            <a:r>
              <a:rPr b="0" i="1" lang="it-IT" sz="1200" spc="-1" strike="noStrike">
                <a:solidFill>
                  <a:srgbClr val="000000"/>
                </a:solidFill>
                <a:latin typeface="Tempus Sans ITC"/>
                <a:ea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3203640" y="2708280"/>
            <a:ext cx="3023640" cy="2015640"/>
            <a:chOff x="3203640" y="2708280"/>
            <a:chExt cx="3023640" cy="2015640"/>
          </a:xfrm>
        </p:grpSpPr>
        <p:sp>
          <p:nvSpPr>
            <p:cNvPr id="73" name="AutoShape 11"/>
            <p:cNvSpPr/>
            <p:nvPr/>
          </p:nvSpPr>
          <p:spPr>
            <a:xfrm>
              <a:off x="3299040" y="2708280"/>
              <a:ext cx="2880720" cy="2015640"/>
            </a:xfrm>
            <a:prstGeom prst="foldedCorner">
              <a:avLst>
                <a:gd name="adj" fmla="val 125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3203640" y="2708280"/>
              <a:ext cx="302364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Britannic Bold"/>
                  <a:ea typeface="Arial"/>
                </a:rPr>
                <a:t>Spazi d’Ascolto e d’Intervento per la Prevenzione delle Dipendenze </a:t>
              </a: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Britannic Bold"/>
                  <a:ea typeface="Arial"/>
                </a:rPr>
                <a:t>Giovanili</a:t>
              </a: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3059280" y="404640"/>
            <a:ext cx="2952720" cy="1008360"/>
            <a:chOff x="3059280" y="404640"/>
            <a:chExt cx="2952720" cy="1008360"/>
          </a:xfrm>
        </p:grpSpPr>
        <p:sp>
          <p:nvSpPr>
            <p:cNvPr id="76" name="Oval 14"/>
            <p:cNvSpPr/>
            <p:nvPr/>
          </p:nvSpPr>
          <p:spPr>
            <a:xfrm>
              <a:off x="3059280" y="404640"/>
              <a:ext cx="2952720" cy="10083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275280" y="641160"/>
              <a:ext cx="24476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</a:t>
              </a: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1844640"/>
            <a:ext cx="8077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Dal 2008 i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SerD della ASL 6 di Sanlur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 accordo con i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rogramma Regionale di Interventi nel Settore delle Dipendenz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 2007,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ha investito  risorse professionali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er l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reazione di  una  rete di progettazione e interven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la  prevenzione e la cura delle dipendenze  giovanili e per la promozione della salute, in ambito scolastico e territoriale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Ha pertanto attivato un percorso di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raccordo, riflessione e azione congiunta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con i giovani, le famiglie, la scuola e altre agenzie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sanitarie, sociali, educative e culturali presenti nel territorio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6443640" y="189000"/>
            <a:ext cx="2376360" cy="865080"/>
            <a:chOff x="6443640" y="189000"/>
            <a:chExt cx="2376360" cy="865080"/>
          </a:xfrm>
        </p:grpSpPr>
        <p:sp>
          <p:nvSpPr>
            <p:cNvPr id="80" name="Oval 5"/>
            <p:cNvSpPr/>
            <p:nvPr/>
          </p:nvSpPr>
          <p:spPr>
            <a:xfrm>
              <a:off x="6443640" y="189000"/>
              <a:ext cx="2376360" cy="865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6617160" y="392040"/>
              <a:ext cx="196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sp>
        <p:nvSpPr>
          <p:cNvPr id="82" name="Text Box 7"/>
          <p:cNvSpPr/>
          <p:nvPr/>
        </p:nvSpPr>
        <p:spPr>
          <a:xfrm>
            <a:off x="1332000" y="476280"/>
            <a:ext cx="52704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empus Sans ITC"/>
                <a:ea typeface="Arial"/>
              </a:rPr>
              <a:t>PRO.DI.GI.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empus Sans ITC"/>
                <a:ea typeface="Arial"/>
              </a:rPr>
              <a:t>Progetto Dipendenze Giovanil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5543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RO.DI.GI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Queste in sintes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e azioni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romosse</a:t>
            </a:r>
            <a:r>
              <a:rPr b="0" lang="it-IT" sz="14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ozione, progettazione e coordinamento d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interventi di preven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rimaria delle dipendenze giovanil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e di promozione della salute nei contesti scolast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Incontri di sensibilizzazione, informazione e forma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ivolti a diversi target interessati: genitori, docenti, Centri di Aggregazione, Gruppi Scou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sulenze specialistiche; Drug Test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;  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ercorsi motivazionali e terapeutic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sulenze, sostegno educativo e psicologico rivolto ai genito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Studio e ricerca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elativamente al fenomeno delle dipendenze giovanili nel nostro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Costituzion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Gruppi Operativi di Peer educator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er la  promozione di  azioni di prevenzione e di promozione della salut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nei territori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di apparten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6227640" y="260280"/>
            <a:ext cx="2376720" cy="863640"/>
            <a:chOff x="6227640" y="260280"/>
            <a:chExt cx="2376720" cy="863640"/>
          </a:xfrm>
        </p:grpSpPr>
        <p:sp>
          <p:nvSpPr>
            <p:cNvPr id="87" name="Oval 5"/>
            <p:cNvSpPr/>
            <p:nvPr/>
          </p:nvSpPr>
          <p:spPr>
            <a:xfrm>
              <a:off x="6227640" y="260280"/>
              <a:ext cx="2376720" cy="86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8" name="Text Box 6"/>
            <p:cNvSpPr/>
            <p:nvPr/>
          </p:nvSpPr>
          <p:spPr>
            <a:xfrm>
              <a:off x="6401160" y="462960"/>
              <a:ext cx="19699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0436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mpus Sans ITC"/>
              </a:rPr>
              <a:t>PRO.DI.GI.</a:t>
            </a:r>
            <a:br>
              <a:rPr sz="3600"/>
            </a:b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empus Sans ITC"/>
              </a:rPr>
              <a:t>La scuola come contesto privilegiato per la promozione della salute e del benessere tra i giovan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767640" y="333360"/>
            <a:ext cx="2376360" cy="719280"/>
            <a:chOff x="6767640" y="333360"/>
            <a:chExt cx="2376360" cy="719280"/>
          </a:xfrm>
        </p:grpSpPr>
        <p:sp>
          <p:nvSpPr>
            <p:cNvPr id="93" name="Oval 5"/>
            <p:cNvSpPr/>
            <p:nvPr/>
          </p:nvSpPr>
          <p:spPr>
            <a:xfrm>
              <a:off x="6767640" y="333360"/>
              <a:ext cx="2376360" cy="719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6941160" y="502200"/>
              <a:ext cx="19699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50025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La scuola come luogo privilegiato per gli interventi di prevenzione e di promozione della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a scuola accogli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un lungo periodo di vit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tutti i soggetti in età evolutiv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offre la possibilità di osservare e monitorare il percorso di crescita e il modello di salute e di benessere sul quale il soggetto sta forgiando il suo personale concetto di “star ben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a scuola è un importante ambito di socializzazion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concorre alla costruzione e definizione dell’identità, all’affinamento di competenze di autovalutazione, interattive e sociali nonché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i abilità utili per un buon adattamento e integraz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6516720" y="333360"/>
            <a:ext cx="2376360" cy="792000"/>
            <a:chOff x="6516720" y="333360"/>
            <a:chExt cx="2376360" cy="792000"/>
          </a:xfrm>
        </p:grpSpPr>
        <p:sp>
          <p:nvSpPr>
            <p:cNvPr id="99" name="Oval 5"/>
            <p:cNvSpPr/>
            <p:nvPr/>
          </p:nvSpPr>
          <p:spPr>
            <a:xfrm>
              <a:off x="6516720" y="333360"/>
              <a:ext cx="2376360" cy="7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690240" y="519120"/>
              <a:ext cx="1969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8:06:32Z</dcterms:created>
  <dc:creator>Francesco</dc:creator>
  <dc:description/>
  <dc:language>en-US</dc:language>
  <cp:lastModifiedBy>Administrator</cp:lastModifiedBy>
  <dcterms:modified xsi:type="dcterms:W3CDTF">2015-02-18T14:45:34Z</dcterms:modified>
  <cp:revision>247</cp:revision>
  <dc:subject/>
  <dc:title>PowerPoint Presentation</dc:title>
</cp:coreProperties>
</file>